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ОРМОНИ КОРЕ НАД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др Јасмина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ЗБОР ГЛИКОКОРТИКО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квивалентне анти-инфламаторне до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кортиз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низолон 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зон ацетат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ксаметазон 0.7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лпреднизолон 4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низон 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амцинолон 4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исо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утоимуна обољења: улцерозни колитис, Кро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ерг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а обољења: лимфатичне леукем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дем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ње трансплантације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зревање плућа детета - пред крај трудноћ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рођене хиперплазије коре над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и крви: тромбоцитопенијска пурпура, 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фолијативни дерматитис, пемфигус, екц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 при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а индикација: примењивати само ако је корист већа од ри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 препарати - када је мог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у постепено смањивати у односу на почетну (акут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а одржавања: најмања могу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ства лека постепено – ако су коришћени дуже од 7 дана у високим доз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рзо може да се доза смањи на физиолошку дневну дозу од 25мг хидрокортизона, а затим мора изузетно споро да се смањ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пресија и атрофија над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ска примена гликокортикоид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→ супримира секрецију АЦТ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код продуженог лечења → атрофија над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гли прекид терапије гликокотрикоиди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акутна инсуфицијенција надбубрега, хипотензија и см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блажи симптоми: ринитис, коњуктивитис, губитак ТМ, болови у зглобовима, болни чворићи у ко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 надбубрега може трајати и годинама после прекида дуготрајне, системске примене гликокотрикоиди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код сваке теже болести или хирушке интервенције код таквог пацијента треба увести куру терапије гликокортикоидима ради компензације неспособности надбубрега да одговори новонасталим захте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о пацијент на хроничној терапији мора да се оперише, треба повећати дозу кортикостерои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јбоље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хидрокортизон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50mg i.v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. пре операције, затим на 8 сати 50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до 72 с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трофија над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тички улк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уносупрес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ве инфекције се брже развиј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некад потребно применити гама-глобул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ви знаци инфекције: примена антиби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таракта, глау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сихичке манифест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уфорија, ноћне море, несаница, иритабилност, лабилно расположење, психотичне реакције, суицидалне иде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поравање раста: д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трофија коже, стрије, ак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трогени Кушингов синдро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на у виду аеросола: промуклост, кандидиј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ирање уста во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птички улк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абетес мелит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пертен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шке 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ктеријске инфе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рпес симплеx инфе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их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теопор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лаук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к изб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еднизо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 јер се у јетри фетуса не може претворити у преднизол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у првом тромесеч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нак расцепа непца (тератогени ефек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ИНЕРАЛ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род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е користи се као лек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: 15 -20м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нтетс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лудрокортизон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флуорирани дериват кортиз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ира свој рецептор (за алдостерон - стероидне структу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дисталним тубулима бубрега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↑реапсорпцију На и ↑излучивање 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ИНЕРАЛ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гулација секре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иотензин 2 (осовина РА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оволемија или губитак На – секреција ренина – ангиотензин 1 – ангиотензин 2 – алдостерон: реапсорпција На у бубре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ЦТХ (делимич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лудрокорти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марна адренокортикална инсуфицијен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нгенитална адренална хиперплазија са губитком со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збиљна ортостатка хипотен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жељена деј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етенција воде и натријума, хиперволемија, едеми, хипертензија, хипокалем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ИНЕРАЛ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Блокатори рецептора за алдостерон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(диуретици који штеде калијум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иронолак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плере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и и секундарни хипералдостерон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иронолактон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хирзут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плеренон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хиперт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калемија, метаболичка ацидоза, неуролошки 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иронолактон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гинекомастија и импотенција код мушкараца, неправилност менструалног циклуса код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АДБУБРЕЖНА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Кор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Зона гломеруло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инералокортикои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Зона фасцикул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Глукокортикои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ти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Зона ретикуларис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ндрог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хидроепиандрост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достен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НДРОГЕНИ ИЗ НАД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она ретикуларис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ндростенди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Дихидроепиандростер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ви хормон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 део укупних андрогена код мушкараца и ж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авни извор естрогена код жена у менопау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роматаза: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ндростендион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естри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минантно се налази у масном тк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и, јетра, млечна жл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ДРЕНОКОРТИКАЛНИ АНТАГОНИ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Аминоглутетими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окира претварање холестерола у прегнено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кације: хормон зависни тумори дојке и прос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Митот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ара ћелије коре над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кације: иноперабилни карцином над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Блокада синтезе стероидних хормона коре надбубрега као нежељено дејство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етоконаз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мети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епраз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труктура хорм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стероид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клопентано-перхидро-фенантренско језг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уросор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 синтетичка пута: адиција ОХ група на основни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ола ослобађања стероидних хормо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ЦТХ из предњег режња хипоф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активност ензима холестерол-естера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варање холестерола у прегнело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реција АЦТ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РХ - кортикотропин рилизинг хормон из хипоталам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а повратна сп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родн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з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невна синтеза: 2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зивање за протеине плазме: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↑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90%: алфа</a:t>
            </a:r>
            <a:r>
              <a:rPr b="0" lang="sr-C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глоб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3-10%: албу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иотрансформација: јетра и бубре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е редукције, коњуг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 бубрегу: кортизол → кортизо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(не делује на рецепторе за алдостерон) под дејством 11 -бета-хидрокортикостеоид дехидроген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инимација: преко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½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= 60-90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цептор за кортизол хетерод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активан у цитоплазми, везан за Хсп 90 (два молек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икокотрикоиди (липофилни)  у цитоплазми доводе до дисоцијације  Хсп 90 са рецептора, кортизол се везује за рецепт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мплекс кортизол-рецептор одлази у једро и везује се за промоторе ге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→ активација транскриције гена тј. њихову експрес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чки ефек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атентни период: 30ми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уни ефекат: до 24 ча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болич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ра гликол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ва синтезу гликогена у фази глад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фикује гликонеогенезу у је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ва ниво глукозе у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пешује липолизу и протеолизу у мишићном и масном тк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талитич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ивно, коштано ткиво, кожу, мишиће и масно тк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едематоз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меабилности капи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инфламотор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ира фофсолипазу А2, ↓синтезу Ц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2, инхибира ослобађање медијатора из мастоцита и еозиноф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варање антиинфламаторног медијатора липокор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расподела леукоци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трофилија, еозинопе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КОКОРТИК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ра Т-помажуће лимфоците, спречава синтезу и ослобађање ИЛ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неопластич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ј патолошких лимф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ише стварање сурфактанта и сазревање плућ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фету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ГЛИКОКОРТИКО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зол -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Hydrocortiso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интетс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ем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ално, парентерално (ив инфузија, суспензија-депо им. инјек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низон, преднизоло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тил-преднизолон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дексаметазон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Траимцинолон ацетонид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 (инмплант  или ив. инјекција) →  лечење едема макуле код дијабетич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к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ahoma"/>
              </a:rPr>
              <a:t>Масти, к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клобетазол,  флуоцинонид, бета-метазон, траимцинолон ацетон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еро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Беклометазон, будесони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ahoma"/>
              </a:rPr>
              <a:t>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 флутикасон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ahoma"/>
              </a:rPr>
              <a:t>мометазон, циклесон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8:44Z</dcterms:modified>
  <cp:revision>8</cp:revision>
  <dc:subject/>
  <dc:title>Slide 1</dc:title>
</cp:coreProperties>
</file>